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ADA-E15D-4402-A8C6-9C352B8D8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6D1-C9DA-4CD2-872E-B707E6EB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86B0-DA28-4C19-BF33-E9A295D2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C531-406C-4B44-BBDC-048C829D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8022-ACEF-4964-8ADE-CC62D174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E9B1-4292-4840-97E8-6DF5C96A5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3F69-8E97-48C9-A51A-BA3B1B44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E9A8-AD65-4E09-A860-85A893E73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BB26-CFCE-4241-A384-A52DC3AD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4600-4B8A-4589-9118-FCFD75BA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C3C1-B92A-406F-9B52-6763DB04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AE91-2EEB-4B36-A930-F775C1DBC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3283-0054-4685-900C-708EAD5A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6D1D-45D9-49DF-BBAD-701DAD514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70C-4483-47D1-96EB-E6DD38CB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1ED6-7AE7-4F64-9D74-D70D7467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4B6-682C-4CB4-8B73-82069FB0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CD76-A5E1-41AF-9EB1-DC13B5C7A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4CF8-2B8E-4659-904C-2FE242D4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C345-F4FD-492E-8302-E863E685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029-CD2D-4F8F-9E1D-7AA30AA18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77E-5FBF-4300-AF89-80F3AB62C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8D22-88EB-499A-AC4C-0247EB55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EC58-E0EE-4671-A82B-49792092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7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ylakoid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ADP+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Calvin_cycle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ubisco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tmp/home/.config/libreoffice/4/user/gallery/glycolysis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aerobic_respiration.wav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rebs_cycl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nergy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thermodynamics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etabolism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photosynthesis.wav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mp/home/.config/libreoffice/4/user/gallery/cellular_respiration.wav" TargetMode="Externa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adenosine_triphosphate.wav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790560" y="2021040"/>
            <a:ext cx="8582040" cy="26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excites electrons in photosystem II and also causes a water molecule to split, releasing an electron into the electron transport system,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o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thylak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ce, an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a wast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6768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90560" y="299556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ctron-acceptor molecule transfers the electrons along a serie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785880" y="1633680"/>
            <a:ext cx="87390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stem I transfers the electrons to a protein called ferrodox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785880" y="2928960"/>
            <a:ext cx="87390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odoxin transfers the electrons to the electron carrier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a6000d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orming the energy-storing molecule NAD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0392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hase Two: The Calvin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90560" y="2021040"/>
            <a:ext cx="34765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econd phase of photosynthesis, called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Calvin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4" descr=""/>
          <p:cNvPicPr/>
          <p:nvPr/>
        </p:nvPicPr>
        <p:blipFill>
          <a:blip r:embed="rId1"/>
          <a:stretch/>
        </p:blipFill>
        <p:spPr>
          <a:xfrm>
            <a:off x="4267080" y="2362320"/>
            <a:ext cx="5715000" cy="3549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55627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785880" y="1643040"/>
            <a:ext cx="8967600" cy="16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 combine with six 5-carbon compounds to form twelve 3-carbon molecules called 3-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785880" y="3313080"/>
            <a:ext cx="89676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ATP and NADPH is transferred to the 3-PGA molecules to form high-energy molecules called G3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785880" y="1300320"/>
            <a:ext cx="89676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G3P molecules leave the cycle to be used for the production of glucose and other organic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85880" y="297036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zyme called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rubis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vert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85880" y="4646520"/>
            <a:ext cx="8967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molecules combine with new carbon dioxide molecules to continue the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85880" y="130032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lternative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85880" y="1995480"/>
            <a:ext cx="89676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785880" y="270036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verview of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790560" y="202104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 obtain energy in a process called cellular respi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790560" y="321948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quation for cellular respiration is the opposite of the equation for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h 8 eq 15"/>
          <p:cNvPicPr/>
          <p:nvPr/>
        </p:nvPicPr>
        <p:blipFill>
          <a:blip r:embed="rId1"/>
          <a:stretch/>
        </p:blipFill>
        <p:spPr>
          <a:xfrm>
            <a:off x="1128600" y="4705200"/>
            <a:ext cx="8229600" cy="10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785880" y="1643040"/>
            <a:ext cx="8967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 occurs in two main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97080" y="234792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Glycoly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1297080" y="305424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erobic 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5" descr="ch 8 im 16"/>
          <p:cNvPicPr/>
          <p:nvPr/>
        </p:nvPicPr>
        <p:blipFill>
          <a:blip r:embed="rId1"/>
          <a:stretch/>
        </p:blipFill>
        <p:spPr>
          <a:xfrm>
            <a:off x="2085840" y="3795840"/>
            <a:ext cx="6324840" cy="2644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24382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7" descr="AUDIO 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124080"/>
            <a:ext cx="40968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790560" y="3219480"/>
            <a:ext cx="835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olecules of ATP and two molecules of NADH are formed for each molecule of glucose that is broken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7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Cellula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817640" y="2452680"/>
            <a:ext cx="8050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1824120" y="3103560"/>
            <a:ext cx="7399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1819440" y="3730680"/>
            <a:ext cx="7397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Kreb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790560" y="3219480"/>
            <a:ext cx="83534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energy from the glucose is still contained in the pyruv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790560" y="4410000"/>
            <a:ext cx="865836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ries of reactions in which pyruvate is broken down into carbon dioxide is called the Krebs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785880" y="1643040"/>
            <a:ext cx="44719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 yield from the Krebs cycle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ch 8 im 19"/>
          <p:cNvPicPr/>
          <p:nvPr/>
        </p:nvPicPr>
        <p:blipFill>
          <a:blip r:embed="rId1"/>
          <a:stretch/>
        </p:blipFill>
        <p:spPr>
          <a:xfrm>
            <a:off x="5448240" y="1019160"/>
            <a:ext cx="441972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lectro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step in the breakdown of 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90560" y="2732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at which ATP is p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790560" y="343548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erobic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790560" y="2021040"/>
            <a:ext cx="8810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erobic pathway that follows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790560" y="2732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i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297080" y="343548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297080" y="414972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8" descr="Vlab_100"/>
          <p:cNvPicPr/>
          <p:nvPr/>
        </p:nvPicPr>
        <p:blipFill>
          <a:blip r:embed="rId1"/>
          <a:stretch/>
        </p:blipFill>
        <p:spPr>
          <a:xfrm>
            <a:off x="5408640" y="4876920"/>
            <a:ext cx="4268880" cy="12160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3"/>
          <p:cNvSpPr/>
          <p:nvPr/>
        </p:nvSpPr>
        <p:spPr>
          <a:xfrm>
            <a:off x="7161120" y="5105520"/>
            <a:ext cx="23637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Cellula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6" descr="Bio-Forward"/>
          <p:cNvPicPr/>
          <p:nvPr/>
        </p:nvPicPr>
        <p:blipFill>
          <a:blip r:embed="rId2"/>
          <a:stretch/>
        </p:blipFill>
        <p:spPr>
          <a:xfrm>
            <a:off x="6640560" y="6745320"/>
            <a:ext cx="4795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ransformation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90560" y="27255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Thermodynam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9440" y="2133720"/>
            <a:ext cx="409680" cy="3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8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458200" y="33526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aws of Ther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90560" y="2021040"/>
            <a:ext cx="8810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90560" y="369720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l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utotrophs and Heterotro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90560" y="1963800"/>
            <a:ext cx="865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 are organisms that make their own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790560" y="310032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trophs are organisms that need to ingest food to obtain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ch8 im3"/>
          <p:cNvPicPr/>
          <p:nvPr/>
        </p:nvPicPr>
        <p:blipFill>
          <a:blip r:embed="rId1"/>
          <a:stretch/>
        </p:blipFill>
        <p:spPr>
          <a:xfrm>
            <a:off x="2149560" y="4282920"/>
            <a:ext cx="61848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790560" y="2021040"/>
            <a:ext cx="8658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90560" y="2728800"/>
            <a:ext cx="8582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hotosynth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nergy from the Sun is converted to chemical energy for use by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90560" y="4408560"/>
            <a:ext cx="8582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Cell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respi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molecules are broken down to release energy for use by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560" y="1447920"/>
            <a:ext cx="409680" cy="357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38098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14600" y="54864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TP: The Unit of Cellula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90560" y="2021040"/>
            <a:ext cx="5000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eases energy when the bond between the second and third phosphate groups is broken, forming a molecule called adenosine diphosphate (ADP) and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ow Organisms Obt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ch 8 im 5"/>
          <p:cNvPicPr/>
          <p:nvPr/>
        </p:nvPicPr>
        <p:blipFill>
          <a:blip r:embed="rId1"/>
          <a:stretch/>
        </p:blipFill>
        <p:spPr>
          <a:xfrm>
            <a:off x="6161040" y="2057400"/>
            <a:ext cx="3059280" cy="3046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7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60199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9" descr="logo"/>
          <p:cNvPicPr/>
          <p:nvPr/>
        </p:nvPicPr>
        <p:blipFill>
          <a:blip r:embed="rId4"/>
          <a:srcRect l="0" t="0" r="24373" b="0"/>
          <a:stretch/>
        </p:blipFill>
        <p:spPr>
          <a:xfrm>
            <a:off x="5562720" y="5511960"/>
            <a:ext cx="4343400" cy="911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0"/>
          <p:cNvSpPr/>
          <p:nvPr/>
        </p:nvSpPr>
        <p:spPr>
          <a:xfrm>
            <a:off x="8375760" y="5635800"/>
            <a:ext cx="793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8000"/>
                </a:solidFill>
                <a:uFillTx/>
                <a:latin typeface="Arial"/>
                <a:ea typeface="ＭＳ Ｐゴシック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verview of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90560" y="2014560"/>
            <a:ext cx="8962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 occurs in two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297080" y="271476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1297080" y="341460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4" descr="ch 8 eq 6"/>
          <p:cNvPicPr/>
          <p:nvPr/>
        </p:nvPicPr>
        <p:blipFill>
          <a:blip r:embed="rId1"/>
          <a:stretch/>
        </p:blipFill>
        <p:spPr>
          <a:xfrm>
            <a:off x="1419120" y="4371840"/>
            <a:ext cx="7655040" cy="12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hase One: Ligh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790560" y="2021040"/>
            <a:ext cx="89629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orption of light is the first step in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560960" y="1440"/>
            <a:ext cx="2067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790560" y="3205080"/>
            <a:ext cx="8962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lasts capture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3" descr="ch 8 im 7"/>
          <p:cNvPicPr/>
          <p:nvPr/>
        </p:nvPicPr>
        <p:blipFill>
          <a:blip r:embed="rId1"/>
          <a:stretch/>
        </p:blipFill>
        <p:spPr>
          <a:xfrm>
            <a:off x="2157480" y="3795840"/>
            <a:ext cx="6172200" cy="282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4-01-24T16:19:06Z</dcterms:modified>
  <cp:revision>479</cp:revision>
  <dc:subject/>
  <dc:title>Glencoe Biology</dc:title>
</cp:coreProperties>
</file>